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94B1-8940-43B8-97FE-EBF329833D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0BE6-FE56-4900-A1CC-EE25B0434C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FCE-BD2D-4287-B72F-92695312E5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EBF-4C67-4CE0-B197-F24D9A10E7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3B93-CD93-4506-9AEE-0BECAFB60D4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1B4-4B98-4CC1-AB58-0393EB1033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4BF-9928-4E13-BA87-C95E7E3E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D79-793D-4924-82B3-7703F4D2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141-851F-4B9C-8989-EDAEE88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23D-FC81-4FB1-93E5-E1A1E33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A653-24F9-4E8B-8E4F-1BD5BD00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FC78-7E3C-45B5-A182-C1EE13C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02B-53C1-4120-AB78-ED1F4482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68F6-ED45-4167-8E01-9963564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753-BE77-4F94-8A45-0CF89A4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8FF0-6106-44A3-AEC1-1CFC335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B6D-ADF0-42B9-AC6E-E4D256D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F18-2D57-4E3E-85F7-0D8EE325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0001-FECE-4EA8-9A5D-2718851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44A-E3DA-471C-9667-0B2BADB4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AB1-549A-4D89-A35F-6FC23C2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1896-78A4-46AA-A925-DC91396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588-023F-4208-86F3-FF834030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94B-A63C-4154-80C5-2DD79350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BBF-6E22-4F26-9A38-5E76973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3E3-8865-484E-831F-51615FE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A78-5B46-48E0-962E-F8D1478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4AD-837A-4E9C-BA84-C26A7F7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208-1977-4EB3-B5BA-999A45F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92F-1DF7-4D59-9F74-57D05AB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604-28E4-44BC-80F7-4BCAE7D6F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F39E-32EF-4A2D-9DCB-454D35C49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Elephant"/>
              </a:rPr>
              <a:t>    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bre: Zachary D. Kolows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99072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 Cas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 es grande y bon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92440"/>
            <a:ext cx="56768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jardin es  grande y  bon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181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 es grande y boni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 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ocina es increible y grand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hobbit-house-englande"/>
          <p:cNvPicPr/>
          <p:nvPr/>
        </p:nvPicPr>
        <p:blipFill>
          <a:blip r:embed="rId1"/>
          <a:stretch/>
        </p:blipFill>
        <p:spPr>
          <a:xfrm>
            <a:off x="1981080" y="25909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no es apestoso y pequ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Tree-House-Bathroom"/>
          <p:cNvPicPr/>
          <p:nvPr/>
        </p:nvPicPr>
        <p:blipFill>
          <a:blip r:embed="rId1"/>
          <a:stretch/>
        </p:blipFill>
        <p:spPr>
          <a:xfrm>
            <a:off x="2590920" y="2286000"/>
            <a:ext cx="348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bonito y estpen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http://t0.gstatic.com/images?q=tbn:ANd9GcQf3G3XMScDdxLiN9mWNoAfmRB0w-2-ZFqF4Um4qFHs2T-5RvDX"/>
          <p:cNvPicPr/>
          <p:nvPr/>
        </p:nvPicPr>
        <p:blipFill>
          <a:blip r:embed="rId1"/>
          <a:stretch/>
        </p:blipFill>
        <p:spPr>
          <a:xfrm>
            <a:off x="3048120" y="2133720"/>
            <a:ext cx="3143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 Dormitorio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 dormitorio es grande y moder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" descr="http://t0.gstatic.com/images?q=tbn:ANd9GcRsnjs73ZKm7Os_twswA2gaF4Obd1Rx9LnlI0i_3lM4rm6PBUfaLg&amp;t=1"/>
          <p:cNvPicPr/>
          <p:nvPr/>
        </p:nvPicPr>
        <p:blipFill>
          <a:blip r:embed="rId1"/>
          <a:stretch/>
        </p:blipFill>
        <p:spPr>
          <a:xfrm>
            <a:off x="2057400" y="2819520"/>
            <a:ext cx="431964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4:11Z</dcterms:created>
  <dc:creator>kolowskyzac</dc:creator>
  <dc:description/>
  <dc:language>en-US</dc:language>
  <cp:lastModifiedBy>Gateway</cp:lastModifiedBy>
  <dcterms:modified xsi:type="dcterms:W3CDTF">2011-04-08T20:23:06Z</dcterms:modified>
  <cp:revision>9</cp:revision>
  <dc:subject/>
  <dc:title>    </dc:title>
</cp:coreProperties>
</file>